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40D-EE37-4BEB-A3DA-4853C75A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53C-234A-469A-8441-5E1B2B79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7C00-01A6-4F07-B93D-89CA2633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D1B-5AA4-4001-9268-E736F0BA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3DB-5001-484F-97D7-33B12E93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BAC3-B629-4A12-9491-846166C3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A09F-C777-49C8-BC10-C3468FF5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200B-0CB8-4A99-A142-C810392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6663-5060-42E4-99F1-0DA71D9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FC1B-0FEF-4EFA-A010-03109E2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06D2-9061-473E-BD16-202E0E6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334-EEC4-461F-99B9-17E1489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30CC-6510-4867-ABE8-78477697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700F-6A65-4E80-8419-93B911E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97DD-1E07-4CF4-A921-81E5E4E8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DC0C-8DDD-4524-9CAB-515974C8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2EC3-D5D5-4D00-8CEA-94F9156B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3AC-6CDB-40E7-8287-3015536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61B-CFF1-46A7-8375-B19FA98E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B55-4F45-4EC2-AEF5-1170D4AC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F1D-BAE1-40ED-97D8-99BB071F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CE2-ED11-4930-BA9C-5A1DA13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4A6-3CA4-4B0A-91BD-752A5BC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054-FB80-4AB8-A8B7-E7E9656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0078-E6D4-410D-83CC-3A281E5B87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673-EBD8-42E7-8A1D-6E7A1BE749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rcaro.org/tensio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iangle element for plane stress hyperelastic F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nicius F. Arcaro, UNICAMP,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Katalin K. Klinka, BME, Hung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pressibility,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68440" y="3057480"/>
            <a:ext cx="38149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x 10 square. The opposite vertical sides are pulled apart. The displacement of each side is equal to 1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2600" y="3040200"/>
            <a:ext cx="3814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pressibility,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55623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dle node displacement on bottom edge is 0.61739 (left) and 0.61739 (rig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2600" y="2678040"/>
            <a:ext cx="3814920" cy="207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40440" y="2333520"/>
            <a:ext cx="381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pressibility,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68440" y="2849400"/>
            <a:ext cx="38149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itially flat membrane has two opposite corners pulled downward and the other two opposite corners pulled up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2600" y="3040200"/>
            <a:ext cx="3814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pressibility,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79440" y="201780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, Thick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otal potential energy is minimized with respect to the displacements and thickn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can be shown that the minimum implies that the principal stress orthogonal to the element’s surface is z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ressibility, Invariants of Right Cauchy-Gree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7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o-Hookean 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ain energy per unit undeformed volume reduces to the previous model in case of incompres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66880" y="4724280"/>
            <a:ext cx="41007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train energy for the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40860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,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68440" y="3057480"/>
            <a:ext cx="381492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x 10 square. The opposite vertical sides are pulled apart. The displacement of each side equal to 1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2600" y="3040200"/>
            <a:ext cx="3814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pres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,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dle node displacement on bottom edge is 0.55815 (left) and 0.55815 (rig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2600" y="2712960"/>
            <a:ext cx="3814920" cy="2071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0440" y="2368440"/>
            <a:ext cx="38145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,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68440" y="2849400"/>
            <a:ext cx="381492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itially flat membrane has two opposite corners pulled downward and the other two opposite corners pulled up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2600" y="3040200"/>
            <a:ext cx="38149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ressibility,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79440" y="2017800"/>
            <a:ext cx="757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ant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element software dedicated to hyperelastic materi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ation of total potential energy, which is a fundamental physical concep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only the coding of the strain energy function and its derivatives with respect to the right Cauchy-Green invari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handle large scale probl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computer codes from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arcaro.org/tension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nicius F. Arcaro, UNICAMP,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Katalin K. Klinka, BME, Hung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conventions apply unless otherwise specified or made clear by the contex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reek letter expresses a scalar. A lower case letter represents a column vector. An upper case letter represents a matri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,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ormation gradient tensor is written in terms of nodal displacements for a simple triangular e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variants of the Right Cauchy-Green deformation tensor are written in terms of nodal displac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otal potential energy is minimized using a quasi-Newton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, Geome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57280" y="2784600"/>
            <a:ext cx="3265560" cy="257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9942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pres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compressibility, Invariants of Right Cauchy-Gree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720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pres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o-Hookean 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in energy per unit undeformed vol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247824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ompress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train energy for the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38292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5:03:11Z</dcterms:created>
  <dc:creator/>
  <dc:description/>
  <dc:language>en-US</dc:language>
  <cp:lastModifiedBy>Full Name</cp:lastModifiedBy>
  <dcterms:modified xsi:type="dcterms:W3CDTF">2010-07-28T18:22:13Z</dcterms:modified>
  <cp:revision>19</cp:revision>
  <dc:subject/>
  <dc:title>Triangle element for plane stress hyperelastic FEA</dc:title>
</cp:coreProperties>
</file>